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1501-1D10-44FB-8C7D-32B08B59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BD8D-2D26-46BA-83B2-A0B4990B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176-B51F-487B-881B-CD23C5C2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AA9-3F1D-4875-85CE-78642E78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507-9830-46A5-BE8D-06C8A66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40F-A490-4013-811C-1BFA8166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B507-E647-4D8F-8DF0-88110488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AB0-56A7-41B8-87D4-C2F9AF10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045-9F34-47A4-8714-15A5D74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C60-7B00-493C-98C6-8C97805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920-1958-4578-8831-6C0AD81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701-8B86-4FEB-B1A4-B6A508E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DEBE-87EC-47B5-B3FF-0F33047EA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oak Std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oak Std"/>
              </a:rPr>
              <a:t>by.   Sydney Matth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- Electronic Mail which allows individuals with an account to send messages to another person with an </a:t>
            </a:r>
            <a:r>
              <a:rPr b="0" lang="en-US" sz="2800" spc="-1" strike="noStrike">
                <a:solidFill>
                  <a:srgbClr val="000000"/>
                </a:solidFill>
                <a:latin typeface="Blackoak Std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- Internet relay chat was developed in 1988 by Jarkkoo  Oikarinen and allows instant online communicating with someone else who is also online by typing messages back and f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S- Bulletin Board Service allows a user to participate in discussio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-Hypertext Transfer Protocol is used for handling the transmission of pages between a web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eb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P-File Transfer Protocol is used to rapidly Transfer 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net-A program used on networks such as the Internet to allow users to remotely Log on to a server on the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pher- One of the first widespread Internet browsing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et- A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by a single organization and only Accessible by authorized U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wall-A network Security System that prevents unauthorized Network A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6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33 E">
                                      <p:cBhvr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net-An extended Intranet that provides Various Level of access to authorized members of the pub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Profiling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arketing Technique that collects online data about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s-Small Files that contain information about the web sites an individual has vis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- A collection of servers that offer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width-The amount of data and the speed at which the data can travel over the transmission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-A compute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cesses a server to request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L-Digital Subscri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- A widely used protocol for lans that uses a bus or star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top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nnects the network devices by twisted pair wiring coaxial Cable, or Fiber Optic C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iquette-The Etiquette that should be followed when using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-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- The logical Arrangement of the nodes on a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less Networks-A type </a:t>
            </a:r>
            <a:r>
              <a:rPr b="0" lang="en-US" sz="3200" spc="-1" strike="noStrike">
                <a:solidFill>
                  <a:srgbClr val="000000"/>
                </a:solidFill>
                <a:latin typeface="Blackoak Std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twork that does not require the use of C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- A circuit Board that goes into the base unit of a computer or other device in a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-Internet Service Provider is company that offers access to the internet for a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-A series of related Web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9:04Z</dcterms:created>
  <dc:creator>770765</dc:creator>
  <dc:description/>
  <dc:language>en-US</dc:language>
  <cp:lastModifiedBy>770765</cp:lastModifiedBy>
  <dcterms:modified xsi:type="dcterms:W3CDTF">2009-04-20T15:46:33Z</dcterms:modified>
  <cp:revision>3</cp:revision>
  <dc:subject/>
  <dc:title>Vocabulary 1</dc:title>
</cp:coreProperties>
</file>